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03BC-3AB5-482C-9662-C135982A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6F4D-4610-4705-8351-370AD149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C2C-B268-43CB-B672-6B91D74F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69B8-259B-4E53-8DCD-EE28168E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C632-7DA8-4F0A-9294-FBC2F82C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32C6-FFF3-4586-B7BF-C86A7123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0F7A-553C-4908-AD0D-76BCB2DF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6AE1-30B4-48CE-AEA5-B68820D3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A33F-963A-4A1B-BEC2-2B834096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766B-8540-41E1-BC2B-D0208248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1754-D32F-4F47-A7E3-181475A0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AF0-9619-4910-9813-4671AFA4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D0D0-60A9-4A35-8827-BE63F907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0B1C-4712-483B-B336-D2FEE5D5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CC4F-2C90-4826-BB02-40BF5159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0D30-2A58-4A22-9570-39F9BE14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E016-20FA-46A5-B470-84CE47E0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7411-8600-4007-BFE2-0B2B6BAA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C6CD-8C6E-4BAA-BA61-6AAAAE98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84A-0045-4875-A5D3-29659F91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AC8-0376-4C6C-BFBB-AFF72AA9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421B-D4AB-4E49-9918-93AED2EB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02F2-46F2-44F8-941C-0AD6CCBD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1B0-A398-442E-8F6C-0A6E757B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32d9f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d9fa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d9f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32d9f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d9fa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C853-1540-45ED-868A-C0D4755511D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32d9f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d9f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50000">
                  <a:srgbClr val="00ccff"/>
                </a:gs>
                <a:gs pos="100000">
                  <a:srgbClr val="7850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785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100000">
                  <a:srgbClr val="66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d9f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32d9f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d9fa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F703-1A56-470F-A5F0-64C4E81B663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dd7df"/>
                </a:solidFill>
                <a:latin typeface="Tahoma"/>
              </a:rPr>
              <a:t>Chapter 21: The Kennedy and Johnson Years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Katy Zerbe and Sherry Seam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Tragedy in Dallas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resident Kennedy had been fatally shot in Dallas while riding in a motorcade on November 22, 1963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Vice President  Lyndon Johnson was sworn in almost immediately as presid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ee Harvey Oswald was charged with the murd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swald was later killed by Jack Ruby, a nightclub own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The Great Society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Johnson moved quickly to push Kennedy initiatives, including the Civil Rights Act, through Congress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He launched his war on poverty with the Economic Opportunity Act, the most ambitious attempt to aid the poor in the nation’s history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It established volunteers in Service to America (VISTA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The act also funded Project Head Start, to give preschoolers from disadvantaged families a leg up on elementary educatio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38224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1964 election, Johnson defeated Arizona Senator Barry Gold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care was one of the most significant pieces of legis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federally funded health care for the elder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Success and Limitations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son’s Great Society program of social and political reform was often compared with Roosevelt’s New D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oals of the two were differ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Society was more successful in creating legislative programs than in implementing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underfunded, partly because of the cost of the Vietnam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112680"/>
            <a:ext cx="845820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991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The New Frontier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nedy instilled Americans with renewed ideal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w Frontier became the label for Kennedy’s vision of progress at h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not an organized set of legislative initiatives like Roosevelt’s New D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nedy reacted to events such as civil rights disturbances, instead of blazing new trai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The Kennedy Aura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Kennedy image captivated the med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said that Kennedy and his wife were the most attractive people to have lived in the white h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urged publicists, magazines, networks, and photograp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considered JFK a hero, and others distrusted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Kennedy’s Working Style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journalist noted that Kennedy’s team was “the best and the brightes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were educated at top Eastern scho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nedy and his team were trying to strengthen public program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interests were centered on foreign policy; the cold war and the containment of commun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381880" cy="57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ugust 1961, Communists built a wall between East Berlin and West Berlin to prevent East Germans from fleeing to the w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nnedy saw himself as more as a pragmatist (someone interested in practical solutions to problems than as a liber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said most of the nation’s problems were technical and administr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The Space Race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ing the early 1960’s, a nation’s accomplishments in space became a test of leadership in technology and defe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May 1961, Kennedy asked Congress for a commitment to the goal of “landing a man on the moon and returning him safely to earth” before 19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SA developed a three step program to put Americans in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381880" cy="57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stage, Project Mercury, consisted of a series of test fl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 Gemini launched a series of flights in which two man teams practiced maneuvering spacecraft while orbiting the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pollo program began in 1968 and would accomplish the goal of a moon l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Programs at Home and Abroad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nedy’s efforts to perk up the economy largely succ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rea Redevelopment Act channeled funds into needy reg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gress raised minimum wage from $1 to $1.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ing his administration, Kennedy initiated several programs for international 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eace Corps sent volunteers to developing countries, where they lived with the locals and assisted in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3818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it’s first 34 years, the Peace Corps sent 140,000 volunteers to 100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gram still continues to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5:57:43Z</dcterms:created>
  <dc:creator>ASD</dc:creator>
  <dc:description/>
  <dc:language>en-US</dc:language>
  <cp:lastModifiedBy>ASD</cp:lastModifiedBy>
  <dcterms:modified xsi:type="dcterms:W3CDTF">2010-07-07T21:00:59Z</dcterms:modified>
  <cp:revision>5</cp:revision>
  <dc:subject/>
  <dc:title>Chapter 21: The Kennedy and Johnson Years</dc:title>
</cp:coreProperties>
</file>